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C496-28D2-4E4A-84E9-00E8A0C07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Ag Metals class these geometry figures could be used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cut out of paper to practice basic skill of understanding the fold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various correct and incorrect diagrams to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use them to create a metal bending project. </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y diagram on metal and trace it.</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 dimensions of diagram, adjust to desired size, and mark dimensions on metal.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with a worksheet that contains hypothetical situations to use these shapes for metal bending. Students determine which examples would and would no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Instead of using paper to create the diagrams, sketch them on thin cardboard, such as a cereal box. Paper may be too flimsy for this type of project.</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B9EE-AAF3-440F-A29B-7A8767417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F317B-7EFC-4072-8C52-0CD0E625F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618ADFEB-DCF6-4810-A660-528A063B72B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129B2-CC4C-4B96-B12B-C1C1FC016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FC95D6-6C4C-4309-9D85-F37A7311F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0F401E-7C8D-4384-A324-6873D50B4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C3536-2BA3-4935-A43D-BEBFFD986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EDCCA-1D71-4BF2-BEFD-662E97BA9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BA8D6-D9EF-4953-9940-91457AED33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81086-658D-4DD9-B4BA-21F23D2FC2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173C2C-7437-44C2-88A6-8FC7950B0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52137C-AA7E-4821-9887-EEF98C7727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14DF4F-6738-42EA-A7B7-CE05F7634F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90D8E7C3-DDBD-489E-A4D3-116260298E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FEE371-A867-4727-9174-9711B75944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CD1687-AD31-441E-94D2-55899F606F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96E12A-C8A4-4B2C-8AAD-DCF9B5A8E4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B52042-CC85-4964-8802-31EA40F5C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DDEE7E-B3A8-4EA1-9D29-539738EBB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3E9FA-CE00-40C8-8709-263ED397F2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82026-3C86-4E96-9305-AEC2F072A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EE4EB-5A87-42CE-93AB-9D26BD468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0F2559-7EDC-426C-AE1B-AC967DD249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FB5375-3692-46E1-9F31-7C90CE7381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2EFCCBB4-406D-4EA4-AE99-21B4EF60068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93D3DF-7006-48E5-933C-CC4C559B15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B44D79-9C90-4110-A70B-5C7AE0746E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7859FF-ECE0-4CEF-999E-E5FE33D40C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328CC4-82D3-4476-A1CD-38FE591009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9509FB-AC7D-4155-A587-D61BE67715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63BD12-4BE3-43B2-8C52-F1F3BC2EF5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A27641-C44B-48DD-8062-589E2368B5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64D2DE-01F8-4462-A873-675F019EAA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18E59D-77D8-4246-A20A-370019453A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CD698D-0437-4873-9C9F-72A67C1A43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520CC3-F90A-415A-8125-C49FF33C1E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454294-A14D-4C3C-ADDC-3EE5A3359A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96CC70-D953-42D6-A23C-9B9249D722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22A387-CC13-44C7-876B-230A96638B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01248C-5F20-4803-90CD-03789C6F38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66988D-D736-43C2-94C7-41B3E1F9E3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7452E3-A451-4660-A070-E84CF2B3A2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086173-867E-4D76-BA71-935926C199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151C22-0B14-46A3-B288-9349532DE0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1BFA1E-E907-4997-932A-C8E0AADAF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532C54-156C-46C0-B627-3AAA079E93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0886D559-163F-44FB-945B-27AF8EA95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D64E41-0C70-43B9-9C87-FFACC21133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F4AD48-4C3C-448B-87AC-0242A4E3CC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3EE4E8-8B11-494F-873B-B1C4A3E02C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535E14-11A0-4DE9-9F96-4C3AC6A46A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AB4F48-A5AA-46D2-B7FA-707CE5001C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8ADC3034-DD0D-4B9B-8DD8-C13F5992D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21EA2EC-B0AA-4D13-85CF-FE699CF20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53542FDE-F7F8-4F56-AE85-92B773BBB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8FC6F97F-F24D-4DA5-9376-FA511B8F9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91BF9F36-8834-4246-9D23-6B8D00EFB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455130E-29A3-4C3E-97BD-CB5C2821B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D1E004F0-D86C-43BC-B03F-AE707DA94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788B5972-2186-4ABB-B3A0-410B996D0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C9DBEAB9-64A5-4930-8EAF-B5BA42642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E8CDAC39-3F06-4C91-AE26-CFE315C76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8429495B-9E7F-469B-BC2C-950D4D6831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B9F1F-DC10-432F-9E9C-391C6BE59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42E07-E0AD-4D92-A156-C043D4741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D9F8E-9C27-460C-89E3-7D1CCCAA9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867FD-2381-41D5-8FD0-FB0756727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6408A-0270-489B-8592-D4A288816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7C2048D-07CD-4EA7-805F-C2501D0D73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32003-4F54-400F-8ADC-D8778DB9A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67718-B58D-4D34-B376-5965D331A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527B7-836C-4E12-B580-6853B42A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CF5B-7AA4-4C71-A838-D0C697971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D08FD-A1A8-40AD-B249-B9EA9941C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CC044-26FF-4902-8268-BA3D54464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BD7C-68D2-41A1-BF07-CB3598E087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6F9A7-94F0-47C0-BDB2-F5193FA694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2D4F7-68FB-446D-8FD6-36AD44B04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65C71-BF9E-4878-9F19-4ACAB9E32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4EEA6572-15CC-42FF-8CC1-F9BDEE5A89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EFCFD-DF84-44EC-88DC-CA51E7451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B0799-B9BA-4E0B-9BC5-651F93CF2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7B5CE-15CF-452D-9023-1FF5DC07A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2CA91-8AE2-4D5F-9A5B-998F34021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52B9F-0D71-44F3-9693-8BBC45FBA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5CD88-2862-4D20-AB72-8C46A51F6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E25A3-E312-41A2-ADDA-46707B61E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F68D04-84BB-48B1-BD59-0DAEDEDCA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BA1D15-E4DD-42E1-84A8-80285CE9B5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522BE-BDDB-4280-954F-57299B01B5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618000FB-3286-44C4-A6BE-45D8D84F01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B0C96-BCFD-4DD4-8646-DA33C56C7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73BD72-125D-40EB-80B9-3A5F7CBC8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07E11-13BF-4BC4-8F90-B512DBFB7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7D07AA-AAAC-490E-8EB4-8037CD80FB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A99A8-BD2A-4470-A04E-069117628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23AA8-9426-49CF-87C0-0FCCC4C7E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F6554-24B2-4D62-BC70-A8F7E2310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28ACC-9159-4EAF-BABD-BEC53DC03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6CF82-3C1F-4DA4-999E-3DBF98E9B3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D41310-DFA5-416A-B703-7CCA21EAB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83121F2E-A402-4767-8733-20468E820E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C64634-AAFA-47E1-A14D-625787F64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141FB0-59CA-4972-95FE-36179ADF0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DDA1F-683C-4625-AD2F-EE81C6CBA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BC1AB-CFC3-44B6-BB0D-C505F146E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F484E-7FB5-43E3-AF95-295FA9BC4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0C7B0-D173-473A-ADB4-B11174DBE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DB179-96B8-4589-A15D-3244D5598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8867B-A41C-421D-99B4-3121FB3BB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9EB4E-947D-43D3-9FCA-14759F2C8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0C74F-70E2-498D-A719-CAAE03934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1F17DA01-33F4-4AD0-93FC-94BECEE1E90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352CA-C6AD-47D2-B20B-F81057F82F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371844-7D24-415F-AAB6-08900E827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87E226-9F15-454C-8A06-C6065E495D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2709BB-17D3-475A-943C-DFBC0DCF33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7ECAE-4B22-4C74-AD6A-8EC4710D4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547E8-26A0-446A-91F1-2706B98251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010D3-443A-439C-A138-10E3C14465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7F3D1-01C9-45F0-A7CC-2F5C7B4E1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7C6C7-DDF9-4FFF-AF08-7F9DAC71B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0CC7F-F534-4627-BB46-E657C9E74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42604180-C250-423B-8694-3F7AD6EBDB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CBBBF-DFAE-4952-84AE-0D5B343D2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FF8F4-8B4F-41B1-998A-715874848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16ED2-63F9-4FDD-A6C6-6CDDC94B22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99982-2BC4-4909-9D19-C82BAB89ED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E5918-0B93-41BD-B811-286561ADE7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68E451-85E4-4436-AAC0-D2134DE817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0A38F0-7354-48E6-9A9B-8A1AC7C64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697508-8E3D-417F-AEB6-3795CD6B2C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CC3CD-1C2E-460D-9524-44C0A1BFE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46E09-7D62-4D8B-8C2E-0DE1CA236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A49FF8E-513E-4BBB-9502-5638B7CA24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7ECF2-FB2E-4A76-A795-E0FF280FA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63D3E-6565-4DEC-A1E0-5D0E482E6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424CF-34EE-4019-A072-DCA79CFDA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8D930-077D-48A0-8A61-598204DFF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60B0F-1F6F-4A38-9060-D779B17B2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E302B0-6DB3-4AA9-803A-4FF76E8CBA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52E801-335D-48F9-A86D-E0A732B751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885F08-762D-4D78-A486-259E92A7DB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8357F-FFCF-4E2C-8277-91B7CD20F6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F24508-8DC6-4A37-9C1D-07696094B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B10B-C903-499B-82B9-418742C5E09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4BC6-2CA7-4D16-9F64-3485B907A10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A47A-55CF-4A31-8612-A71B13CC573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81C4-50A0-4474-A2CD-583A69CB60A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47FE-A46D-48D3-9452-6F4329E9E43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BC2B-BCA8-43BB-8CB0-EA480C84849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0F6B-AF5A-4460-8B5C-0ED50FC259CF}"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D0FB-E07D-4B88-8141-E5D4687C1F1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662F-6D29-4E06-A9F6-616513AFDBC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4777-2605-4768-B0FD-DBD3BD2D4E6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4B7C-1377-46D9-84FE-926B3F9C679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916B-2F03-45A4-BC5C-32DCE9F1EB2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time the paper folds perfectly into a box. He can now lay this paper model onto the metal and trace around the outline. He also can measure the dimensions of the boxes to make marks on the metal for the appropriate bends.</a:t>
            </a:r>
            <a:endParaRPr b="0" lang="en-US" sz="2800" spc="-1" strike="noStrike">
              <a:solidFill>
                <a:srgbClr val="4e3b30"/>
              </a:solidFill>
              <a:latin typeface="Verdana"/>
            </a:endParaRPr>
          </a:p>
        </p:txBody>
      </p:sp>
      <p:sp>
        <p:nvSpPr>
          <p:cNvPr id="5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 Ag Metals teacher assigns students to build a pencil-box by bending and shaping metal. She provides a worksheet that includes various possibilities to use to make the box. Students must choose which model would accurately fold into a squar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nce students have selected the correct diagram, they will enlarge the dimensions to create a pencil-box. Which diagram should they use?</a:t>
            </a:r>
            <a:endParaRPr b="0" lang="en-US" sz="2800" spc="-1" strike="noStrike">
              <a:solidFill>
                <a:srgbClr val="4e3b30"/>
              </a:solidFill>
              <a:latin typeface="Verdana"/>
            </a:endParaRPr>
          </a:p>
        </p:txBody>
      </p:sp>
      <p:grpSp>
        <p:nvGrpSpPr>
          <p:cNvPr id="596" name="Group 2"/>
          <p:cNvGrpSpPr/>
          <p:nvPr/>
        </p:nvGrpSpPr>
        <p:grpSpPr>
          <a:xfrm>
            <a:off x="3905280" y="3733920"/>
            <a:ext cx="1400040" cy="1257120"/>
            <a:chOff x="3905280" y="3733920"/>
            <a:chExt cx="1400040" cy="1257120"/>
          </a:xfrm>
        </p:grpSpPr>
        <p:sp>
          <p:nvSpPr>
            <p:cNvPr id="597"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9"/>
          <p:cNvGrpSpPr/>
          <p:nvPr/>
        </p:nvGrpSpPr>
        <p:grpSpPr>
          <a:xfrm>
            <a:off x="6324480" y="3733920"/>
            <a:ext cx="1866960" cy="1257120"/>
            <a:chOff x="6324480" y="3733920"/>
            <a:chExt cx="1866960" cy="1257120"/>
          </a:xfrm>
        </p:grpSpPr>
        <p:sp>
          <p:nvSpPr>
            <p:cNvPr id="604"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16"/>
          <p:cNvGrpSpPr/>
          <p:nvPr/>
        </p:nvGrpSpPr>
        <p:grpSpPr>
          <a:xfrm>
            <a:off x="1019160" y="3733920"/>
            <a:ext cx="1866600" cy="1676160"/>
            <a:chOff x="1019160" y="3733920"/>
            <a:chExt cx="1866600" cy="1676160"/>
          </a:xfrm>
        </p:grpSpPr>
        <p:sp>
          <p:nvSpPr>
            <p:cNvPr id="612"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2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Students should use the purple figure because it folds into a box.</a:t>
            </a:r>
            <a:endParaRPr b="0" lang="en-US" sz="2800" spc="-1" strike="noStrike">
              <a:solidFill>
                <a:srgbClr val="4e3b30"/>
              </a:solidFill>
              <a:latin typeface="Verdana"/>
            </a:endParaRPr>
          </a:p>
        </p:txBody>
      </p:sp>
      <p:grpSp>
        <p:nvGrpSpPr>
          <p:cNvPr id="621" name="Group 2"/>
          <p:cNvGrpSpPr/>
          <p:nvPr/>
        </p:nvGrpSpPr>
        <p:grpSpPr>
          <a:xfrm>
            <a:off x="3905280" y="3733920"/>
            <a:ext cx="1400040" cy="1257120"/>
            <a:chOff x="3905280" y="3733920"/>
            <a:chExt cx="1400040" cy="1257120"/>
          </a:xfrm>
        </p:grpSpPr>
        <p:sp>
          <p:nvSpPr>
            <p:cNvPr id="622"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9"/>
          <p:cNvGrpSpPr/>
          <p:nvPr/>
        </p:nvGrpSpPr>
        <p:grpSpPr>
          <a:xfrm>
            <a:off x="6324480" y="3733920"/>
            <a:ext cx="1866960" cy="1257120"/>
            <a:chOff x="6324480" y="3733920"/>
            <a:chExt cx="1866960" cy="1257120"/>
          </a:xfrm>
        </p:grpSpPr>
        <p:sp>
          <p:nvSpPr>
            <p:cNvPr id="629"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
          <p:cNvGrpSpPr/>
          <p:nvPr/>
        </p:nvGrpSpPr>
        <p:grpSpPr>
          <a:xfrm>
            <a:off x="1019160" y="3733920"/>
            <a:ext cx="1866600" cy="1676160"/>
            <a:chOff x="1019160" y="3733920"/>
            <a:chExt cx="1866600" cy="1676160"/>
          </a:xfrm>
        </p:grpSpPr>
        <p:sp>
          <p:nvSpPr>
            <p:cNvPr id="636"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Rectangle 25"/>
          <p:cNvSpPr/>
          <p:nvPr/>
        </p:nvSpPr>
        <p:spPr>
          <a:xfrm>
            <a:off x="5943600" y="3124080"/>
            <a:ext cx="2666880" cy="2514600"/>
          </a:xfrm>
          <a:prstGeom prst="rect">
            <a:avLst/>
          </a:prstGeom>
          <a:noFill/>
          <a:ln w="38160">
            <a:solidFill>
              <a:srgbClr val="f0a2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X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4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4"/>
          <p:cNvGrpSpPr/>
          <p:nvPr/>
        </p:nvGrpSpPr>
        <p:grpSpPr>
          <a:xfrm>
            <a:off x="3695760" y="3581280"/>
            <a:ext cx="1866960" cy="1257480"/>
            <a:chOff x="3695760" y="3581280"/>
            <a:chExt cx="1866960" cy="1257480"/>
          </a:xfrm>
        </p:grpSpPr>
        <p:sp>
          <p:nvSpPr>
            <p:cNvPr id="648" name="Rectangle 10"/>
            <p:cNvSpPr/>
            <p:nvPr/>
          </p:nvSpPr>
          <p:spPr>
            <a:xfrm>
              <a:off x="50961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9"/>
            <p:cNvSpPr/>
            <p:nvPr/>
          </p:nvSpPr>
          <p:spPr>
            <a:xfrm>
              <a:off x="36957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8"/>
            <p:cNvSpPr/>
            <p:nvPr/>
          </p:nvSpPr>
          <p:spPr>
            <a:xfrm>
              <a:off x="3695760" y="40003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7"/>
            <p:cNvSpPr/>
            <p:nvPr/>
          </p:nvSpPr>
          <p:spPr>
            <a:xfrm>
              <a:off x="3695760" y="358128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416232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5"/>
            <p:cNvSpPr/>
            <p:nvPr/>
          </p:nvSpPr>
          <p:spPr>
            <a:xfrm>
              <a:off x="462924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will be overlapping sid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Y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4"/>
          <p:cNvGrpSpPr/>
          <p:nvPr/>
        </p:nvGrpSpPr>
        <p:grpSpPr>
          <a:xfrm>
            <a:off x="3948120" y="3429000"/>
            <a:ext cx="1400040" cy="1676520"/>
            <a:chOff x="3948120" y="3429000"/>
            <a:chExt cx="1400040" cy="1676520"/>
          </a:xfrm>
        </p:grpSpPr>
        <p:sp>
          <p:nvSpPr>
            <p:cNvPr id="660" name="Rectangle 10"/>
            <p:cNvSpPr/>
            <p:nvPr/>
          </p:nvSpPr>
          <p:spPr>
            <a:xfrm>
              <a:off x="441468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9"/>
            <p:cNvSpPr/>
            <p:nvPr/>
          </p:nvSpPr>
          <p:spPr>
            <a:xfrm>
              <a:off x="3948120" y="46864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881600" y="342900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488160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394812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
            <p:cNvSpPr/>
            <p:nvPr/>
          </p:nvSpPr>
          <p:spPr>
            <a:xfrm>
              <a:off x="441468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Yes, there is the correct number of squares, and they each fold to represent one side of th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Metal Fabrication students use geometry shapes to determine how to cut and bend metal to create metal box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Metal Fabrication—AMF1.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pare different types of metal for weld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end, shape, file, and grind meta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cognize the relationship between a three-dimensional figure and its two-dimensional representation.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ich of the following will fold into a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tart with six squares since there are six sides 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the six squares so they fold in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of a cube as four sides, a top, and a botto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rst choose one square to be the base of the cube in your min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n imagine the sides folding up around the bas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ast square should flip over to be the top of the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sked to create a small box by bending and shaping metal. They first diagram their box design on paper to determine how it will fold. Using geometry knowledge, they will create a model that will fold into a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A creates this design. He cuts out the paper model and practices folding it to ensure his diagram will work.</a:t>
            </a:r>
            <a:endParaRPr b="0" lang="en-US" sz="2800" spc="-1" strike="noStrike">
              <a:solidFill>
                <a:srgbClr val="4e3b30"/>
              </a:solidFill>
              <a:latin typeface="Verdana"/>
            </a:endParaRPr>
          </a:p>
        </p:txBody>
      </p:sp>
      <p:sp>
        <p:nvSpPr>
          <p:cNvPr id="5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Group 4"/>
          <p:cNvGrpSpPr/>
          <p:nvPr/>
        </p:nvGrpSpPr>
        <p:grpSpPr>
          <a:xfrm>
            <a:off x="3200400" y="3733920"/>
            <a:ext cx="2333520" cy="1256760"/>
            <a:chOff x="3200400" y="3733920"/>
            <a:chExt cx="2333520" cy="1256760"/>
          </a:xfrm>
        </p:grpSpPr>
        <p:sp>
          <p:nvSpPr>
            <p:cNvPr id="570" name="Rectangle 11"/>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9"/>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
            <p:cNvSpPr/>
            <p:nvPr/>
          </p:nvSpPr>
          <p:spPr>
            <a:xfrm>
              <a:off x="460044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7"/>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5067360" y="41526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fter he tries folding this model, he realizes he has one too many squares. He only needs six. He tries again by cutting off one square cube of the paper.</a:t>
            </a:r>
            <a:endParaRPr b="0" lang="en-US" sz="2800" spc="-1" strike="noStrike">
              <a:solidFill>
                <a:srgbClr val="4e3b30"/>
              </a:solidFill>
              <a:latin typeface="Verdana"/>
            </a:endParaRPr>
          </a:p>
        </p:txBody>
      </p:sp>
      <p:sp>
        <p:nvSpPr>
          <p:cNvPr id="5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
          <p:cNvGrpSpPr/>
          <p:nvPr/>
        </p:nvGrpSpPr>
        <p:grpSpPr>
          <a:xfrm>
            <a:off x="3200400" y="3733920"/>
            <a:ext cx="1866960" cy="1256760"/>
            <a:chOff x="3200400" y="3733920"/>
            <a:chExt cx="1866960" cy="1256760"/>
          </a:xfrm>
        </p:grpSpPr>
        <p:sp>
          <p:nvSpPr>
            <p:cNvPr id="582" name="Rectangle 7"/>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5"/>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46008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7-31T05:26:05Z</dcterms:modified>
  <cp:revision>20</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49566738</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